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76F-4850-472F-8F34-51FF950F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479-AA42-49BA-8344-AED410F2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41F-E641-498E-BBB2-D9AF04C5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F96-5203-4BCE-BDA2-59BCAB99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C087-974E-4F27-A860-1117F035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62DD-ACFA-441D-910E-F8D68D39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6F2E-FD8E-4642-B018-B2C39960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550A-8564-4ACC-BAB3-AF5B30E4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1FC9-478F-4456-B3C7-49D0DA0E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F58B-75A6-4A76-8483-8C576BCB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845F-4B40-4F82-ADC2-1DE9ADA3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1D5-7BA6-49DE-8765-22942BE5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21F7-ADF4-4F9A-A04F-701D3700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1BA8-23D9-4883-84D7-27FB4088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8433-49A8-4E81-9DCC-75CBE523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6BE8-0CCC-47B4-9517-537EA246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3DDD-293C-488B-94C7-37DE0515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3B4-C17A-45BE-9625-5EF26835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086-6E6A-4372-A390-24CD7A11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16C-8665-41C4-900A-E879BEF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86F-DAF8-41A2-9467-2147E2B0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F9D-E976-41E1-9551-81C6B62E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4B6-CDE3-40B5-8429-B6E69ED6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837-8590-4975-976C-43CFB73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Group 9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3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4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6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Group 14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Freeform 10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7553-FD61-4CD7-A90E-7EFC298DE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Group 9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Freeform 2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Group 5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Freeform 3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4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8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Freeform 6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7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Group 14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Freeform 10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1833-A7D7-4951-B86A-0BB62D8B0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2133360"/>
            <a:ext cx="795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cccc"/>
                </a:solidFill>
                <a:latin typeface="Times New Roman"/>
              </a:rPr>
              <a:t>ЗДРАВСТВЕНА ЕКОНОМИЈА – ИСТОРИЈАТ И ТЕОРЕТСКЕ ОСНОВЕ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836640"/>
            <a:ext cx="7086600" cy="91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cc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cccc"/>
                </a:solidFill>
                <a:latin typeface="Times New Roman"/>
              </a:rPr>
              <a:t>4. </a:t>
            </a:r>
            <a:r>
              <a:rPr b="1" i="1" lang="sr-CS" sz="3200" spc="-1" strike="noStrike">
                <a:solidFill>
                  <a:srgbClr val="00cccc"/>
                </a:solidFill>
                <a:latin typeface="Times New Roman"/>
              </a:rPr>
              <a:t>Трошкови у здравственој заштити</a:t>
            </a:r>
            <a:br>
              <a:rPr sz="3200"/>
            </a:br>
            <a:r>
              <a:rPr b="1" i="1" lang="en-US" sz="44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00000" y="18446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ошкови у примарној здрваственој зашти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ошкови превентивних и скрининг програ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кономика болничког леч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кономски модели болнице и организација болн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тања везана за економију и дисекономију об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компезирана зашти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сока технологија и трошковићконтрола трош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cc"/>
                </a:solidFill>
                <a:latin typeface="Times New Roman"/>
              </a:rPr>
              <a:t>5. </a:t>
            </a:r>
            <a:r>
              <a:rPr b="1" i="1" lang="sr-CS" sz="3200" spc="-1" strike="noStrike">
                <a:solidFill>
                  <a:srgbClr val="00cccc"/>
                </a:solidFill>
                <a:latin typeface="Times New Roman"/>
              </a:rPr>
              <a:t>Механизми плаћања у здравству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њују се различити облици плаћања лекара, медицинских техничара и сестара (капитација, по услузи, утврђена плата) и нездравствених радника запослених у здравств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тражују се и различити начини плаћања за болничко лечење као что су ретроспективно и проспективно плаћање за болничко лечење, фиксиран болнички буж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cc"/>
                </a:solidFill>
                <a:latin typeface="Times New Roman"/>
              </a:rPr>
              <a:t>6. </a:t>
            </a:r>
            <a:r>
              <a:rPr b="1" i="1" lang="sr-CS" sz="3200" spc="-1" strike="noStrike">
                <a:solidFill>
                  <a:srgbClr val="00cccc"/>
                </a:solidFill>
                <a:latin typeface="Times New Roman"/>
              </a:rPr>
              <a:t>Промет лекова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бивања у фармацеутској индустрији изучавају се делимично и у економици здравствене заштит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анали дистрибуције леков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нтрола цене леков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ере за ограничавање трош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зитивне листе, рефералне це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cc"/>
                </a:solidFill>
                <a:latin typeface="Times New Roman"/>
              </a:rPr>
              <a:t>7. </a:t>
            </a:r>
            <a:r>
              <a:rPr b="1" i="1" lang="sr-CS" sz="3200" spc="-1" strike="noStrike">
                <a:solidFill>
                  <a:srgbClr val="00cccc"/>
                </a:solidFill>
                <a:latin typeface="Times New Roman"/>
              </a:rPr>
              <a:t>Оцењивање здравствених програма и пројеката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и оцењивању здравствених пројеката и програма, поред других критеријума треба да се узму у обзир и економски критеријум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фикасност употребе ресурса у области заштите здрављ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нцепт правичности и економске ефикасности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етоди економских оцена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инимизирање трошкова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, cost-benefit, cost-effectiveness i cost-utility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анализа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cc"/>
                </a:solidFill>
                <a:latin typeface="Times New Roman"/>
              </a:rPr>
              <a:t>8. Правичност, економска ефикасност и медицинска етика</a:t>
            </a:r>
            <a:br>
              <a:rPr sz="2800"/>
            </a:br>
            <a:r>
              <a:rPr b="1" i="1" lang="ru-RU" sz="2800" spc="-1" strike="noStrike">
                <a:solidFill>
                  <a:srgbClr val="00cccc"/>
                </a:solidFill>
                <a:latin typeface="Times New Roman"/>
              </a:rPr>
              <a:t>9. Мерење здравственог стања</a:t>
            </a:r>
            <a:br>
              <a:rPr sz="2800"/>
            </a:br>
            <a:r>
              <a:rPr b="1" i="1" lang="ru-RU" sz="2800" spc="-1" strike="noStrike">
                <a:solidFill>
                  <a:srgbClr val="00cccc"/>
                </a:solidFill>
                <a:latin typeface="Times New Roman"/>
              </a:rPr>
              <a:t>10. Реформе здравственог систе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Times New Roman"/>
              </a:rPr>
              <a:t>ПОВЕЗАНОСТ СА ДРУГИМ ДИСЦИПЛИНАМА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кономика здравствене заштите је повезана са бројним другим наукама. Као примењене дисциплина она се ослања на економску теорију чији се распон тема протеже од микроекономских до макроекономск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кономика здравствене заштите повезана је такође са социјалном медицином и социјалном епидемиологијом, правом, социјологијом. У емпиријским истраживањима користе се статистичке и друге квантитативне мет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8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Економски аспекти здравља и здравствене заштите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cccc"/>
                </a:solidFill>
                <a:latin typeface="Times New Roman"/>
              </a:rPr>
              <a:t>Здравље и здравствена заштита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Здравље се не може продавати и купова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Здравље се не може размењивати за друге произв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Здравствена заштита може да се нуди и продај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Здравље се може заштитити и унапреди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јединац може имати економске користи од доброг здравља, пружа му шансу да оствари већи доходак, да потпуније користи друга добра, слободно време, друге услуге,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Здравствена услуга је различита у односу на било коју другу врсту услу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Неизвестност будућих потреб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Асиметрична информисаност корис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Екстерни негативни и позитивни ефек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Посебан интерперсоналан одн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Етичке норм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ЗДРАВСТВЕН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ЕКОНОМИ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JA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КАО НАУЧНА ДИСЦИПЛИНА</a:t>
            </a:r>
            <a:endParaRPr b="0" i="1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Током 60-тих година у развијеним друштвима први пут примећен тренд да сваке године све већи део бруто националног доходка се троши на здравствену заштиту становништва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Тада се јављају прва систематска истраживања потрошње средстава и броја пружених услуга у великим клиничким центри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cccc"/>
                </a:solidFill>
                <a:latin typeface="Times New Roman"/>
              </a:rPr>
              <a:t>Неизвесност будућих здравствених потреба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Неизвесност и ризик су веома важне карактеристике везане за здравље чове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Будуће здравствено стање појединца или популационе групе тешко је предвиде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стојање неизвесности носи ризик од појаве нежељених погоршања здравственог стања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бог постојања неизвесности јављају се ирегуларности коришћења здравствених услуга од стране појединаца и популационих груп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јединац не зна које ће му здр. услуге бити потребне ни у ком обим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амо неке врсте здравствених услуга могу бити пружене као услуге које су унапред испланиране: систематски прегледи, масовне имунизације,...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јава болести је нежељен и неочекиван догађај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вод за обраћање здр. служби је често изненадан и случајан: повреда, саобраћајна несрећа, инфарк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Исход лечења је такође често неизвеста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јединац може да умањи ризик од појаве болести и траума и економске губитке због болести ако прихвати препоруке о здравом начину живо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cccc"/>
                </a:solidFill>
                <a:latin typeface="Times New Roman"/>
              </a:rPr>
              <a:t>Асиметрична информисаност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Корисник здравствене заштите најчешће има мале могућности да сам разуме која врста услуге му је потребна. Он се обраћа здр. служби чиме почиње процес пружања услуге-проблем асиметричне информисаности, тј. боља информисаност једне стране у односу на другу, односно лекара у односу на пацијент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Недовољна информисаност пацијента може се ублажити акцијама у оквиру превентивних програма и подизањем здравствене просвећено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 случају добровољног осигурања, осигуравач је слабије информисан од купца полисе осигурања. Купац полисе осигурања боље познаје ризике којим је изложено његово здрављ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Често се лек истог састава јавља на тржишту под различитим називима које им дају и које штите њихови произвођач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cccc"/>
                </a:solidFill>
                <a:latin typeface="Times New Roman"/>
              </a:rPr>
              <a:t>Екстерни ефекти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јављују се као позитивни и као негативн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 u="sng">
                <a:solidFill>
                  <a:srgbClr val="ffff00"/>
                </a:solidFill>
                <a:uFillTx/>
                <a:latin typeface="Times New Roman"/>
              </a:rPr>
              <a:t>Позитивни екстерни ефект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масовне превентивне акције чији је циљ заштита од заразних болести, где користи имају и они који у тим акцијама не партиципирају, затим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резултати медицинских истраживања доносе корист свуда где се створе услови за њихову примен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ромотивне активности на унапређењу здравља-јачање здравственог потенцијала индивидуе и заједниц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 u="sng">
                <a:solidFill>
                  <a:srgbClr val="ffff00"/>
                </a:solidFill>
                <a:uFillTx/>
                <a:latin typeface="Times New Roman"/>
              </a:rPr>
              <a:t>Негативни екстерни ефекти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 (угрожавају здравље великог броја људи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вожња под утицајем алкохол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агађење животне околи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роизводња цигарета, алкохол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разне производне актив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рехрамбени производи који не задовољавају услове у погледу исправ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кривање неповољног дејства л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cccc"/>
                </a:solidFill>
                <a:latin typeface="Times New Roman"/>
              </a:rPr>
              <a:t>Интерперсонални однос лекар-пацијент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ацијент коме је угрожено здравље или живот – високо вреднује заштиту здрављ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Ако је стање здравља задовољавајуће људи се недовољно интересују за оно што им здравствена служба омогућује у случају појаве боле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лобода избора лекара доприноси односу заснованом на поверењ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Лекара обавезују традиционалне етичке норме и Хипократова закле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дравствене потребе су потребе с највишим приоритето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Различита су мишљења по питању услуга здр. службе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да буду стављене становништву на располагање по принципу колективног добра(принцип солидарности и узајамности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да треба да буде третирана као и свака друга услуг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cccc"/>
                </a:solidFill>
                <a:latin typeface="Times New Roman"/>
              </a:rPr>
              <a:t>Здравствени систем и економски систем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Економски раст –побољшање животног стандарда-позитиван утицај на здравље и продужење животног века, али до одређеног нивоа.На неком степену економског развоја, даље повећање дохотка по становнику испољава све мањи утицај на здравље становништв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Негативни ефекти економског развоја на здравље: гојазност, саобраћајне несреће, загађење природе, виши ниво стреса)-пораст смртности од повреда, несрећа, болести срца и крвних судова, 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60280"/>
            <a:ext cx="7086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ДРАВСТВЕН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ЕКОНОМИ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JA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 КАО НАУЧНА ДИСЦИПЛИНА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алан раст трошкова у здравству и неуспешни покушаји да се њихово кретање стави под контролу били су снажни подстицаји за развој економике здравствене зашти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Економика здравствене заштите је мада грана економских наука, конституисана као научна дисциплина почетком шездесетих година двадесетог 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cccc"/>
                </a:solidFill>
                <a:latin typeface="Times New Roman"/>
              </a:rPr>
              <a:t>Економске неједнакости и здравље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програму СЗО Здравље за све у 21. веку разлике у здрављу које су условљене економским неједнакостима оцењене су као тешка неправда, а њихово превазилажење поставља се као важан задатак за будућно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ак и у најбогатијим земљама постоје социјалне разлике. Богати живе дуже и имају мањи степен болести и инвалидности. Сиромаштво је значајан фактор ризика за здравље (опада запосленост, лоша исхрана, отежано коришћење здравствене заштите, издаци за лекове,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cccc"/>
                </a:solidFill>
                <a:latin typeface="Times New Roman"/>
              </a:rPr>
              <a:t>Здравље као ресурс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равље као имовина, као капит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ребно је улагати у здравље, у његово очување и унапређењ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равље је имовина коју човеку нико не може да уз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cccc"/>
                </a:solidFill>
                <a:latin typeface="Times New Roman"/>
              </a:rPr>
              <a:t>Основни типови економске анализе примењене на здравствени сектор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ost-of-illn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или анализа тр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кова 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ле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/ minimization”, анализа минимизације тр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к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/ effectiveness”, анализа тр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ви /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фект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ивнос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/ benefit” или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анализа трошкови /  доби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/ utility”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анализ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трошкови / кориснос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00cccc"/>
                </a:solidFill>
                <a:latin typeface="Times New Roman"/>
              </a:rPr>
              <a:t>ЗДРАВСТВЕНА </a:t>
            </a: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ЕКОНОМИ</a:t>
            </a:r>
            <a:r>
              <a:rPr b="0" i="1" lang="sr-Latn-RS" sz="3200" spc="-1" strike="noStrike">
                <a:solidFill>
                  <a:srgbClr val="00cccc"/>
                </a:solidFill>
                <a:latin typeface="Times New Roman"/>
              </a:rPr>
              <a:t>ЈА 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Здравстве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кономија је на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чна дисциплин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која, применом економс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о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ана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тичко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метода, пореди улагања са добијеним исходима на пољу здравствених услу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Њен циљ је најрационалнија могућа расподела расположивих ресурса у здравств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Times New Roman"/>
              </a:rPr>
              <a:t>ДЕФИНИЦИЈА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64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"Економика здравља бави се питањима оптималне употребе ретких економских ресурса за лечење болести и промоцију здравља".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ushkin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, 1958)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Једноставна дефиниција - "економника здравства је примена економике на здравствено подручје"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larman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, 1965)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"Економика здравља мозе сц као дисциплина дефинисати као примена теорије, алата и концепата економије на теме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дравља и здравствене застите. Економија је усрнерена на питања алокације ретких ресурса: економика здравља је усмерена на алокацију ретких ресурса да би се побољсало здравље„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obelt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, 1996)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Times New Roman"/>
              </a:rPr>
              <a:t>ПРЕДМЕТ ИЗУЧАВАЊА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едмет изучавања економике здравствене заштите обухвата широк спектар проблема који се односе на механизме мобилизације и алокације ресурса намењених здравственој заштити.</a:t>
            </a: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00"/>
                </a:solidFill>
                <a:latin typeface="Times New Roman"/>
              </a:rPr>
              <a:t>ГЛАВНА ПОДРУЧЈА ИСТРАЖИВАЊА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773000"/>
            <a:ext cx="791856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лавна подручја економике здравствене заштите могуће је друписати у неколико ширих целина: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i="1" lang="ru-RU" sz="2400" spc="-1" strike="noStrike">
                <a:solidFill>
                  <a:srgbClr val="47ffff"/>
                </a:solidFill>
                <a:latin typeface="Times New Roman"/>
              </a:rPr>
              <a:t>Економске карактеристике здравља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 оквиру ове теме изучавају се неизвесност здравствених потреба, условљеност понашања корисника и давалаца здравствених услуга посебним интерперсоналним односом лекар-пацијент, асиметрична информисаност која се јавља у форми слабије информисаности пацијента у односу на лекара и слабије информисаности осигуравајуће компаније у односу на осигураника на тржишту добровољног здравственог осигурањ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00000" y="162828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cc"/>
                </a:solidFill>
                <a:latin typeface="Times New Roman"/>
              </a:rPr>
              <a:t>2. Макроекономски приступ здравству, здрављу и здравственој заштити обухват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кономске проблеме функционисања здрвственог систем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везаност економског и здравственог систем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тицај незапослености на здравље становништв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кономске неједнакости и здрављ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купно издвајање за здрвствену таштиту и њег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подела по областима здравствене заштит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збор приоритета у формулисању стратегије развоја здравственог систе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везаност здравља и окруж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cc"/>
                </a:solidFill>
                <a:latin typeface="Times New Roman"/>
              </a:rPr>
              <a:t>3. Алокација и мобилизација ресурса - шира област истраживања у економици здравствене заштите која садржи три целин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ржиште здравствених услуга и приватно здравствено осигурањ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дел националне здравствене служб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cc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бавезно здравствено осигурањ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7T04:37:16Z</dcterms:created>
  <dc:creator>Bill Geates</dc:creator>
  <dc:description/>
  <dc:language>en-US</dc:language>
  <cp:lastModifiedBy>Ceca</cp:lastModifiedBy>
  <dcterms:modified xsi:type="dcterms:W3CDTF">2020-02-11T09:38:37Z</dcterms:modified>
  <cp:revision>87</cp:revision>
  <dc:subject/>
  <dc:title>No Slide Title</dc:title>
</cp:coreProperties>
</file>